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CBAC-A0E4-48E4-9D56-F74115BF3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C711-A39F-47CF-A4EC-E7BB3592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69F3-5B61-4925-85DE-910B5F7CA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0476-217E-4669-9395-3DB576D80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3170-5E5B-4DD4-85D4-3E311414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72AD-F950-43AE-A4C7-D1B0B639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5B23-E9AD-43E6-9221-B9B29EE1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34CC-78E0-4D77-9852-41CDBAF9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7968-6B78-4727-B352-158D9070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46E5-7D5C-47A7-8957-DD6055FC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95A0-8FB6-4D44-9FC5-987AA14C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E342-CD37-4E6F-843D-3D46577C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D78E-7376-433D-9BED-55DA597E9E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ихроматометрическое тит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r2О72- + 6е + 14Н+ = 2Сr3+ + 7Н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едовательно, молярная масса эквивалента дихромата калия равна 1/6 молярной массы. Из уравнения реакции видно, что восстановление анионов Сr2О72- до катионов Сr3+ происходит в присутствии ионов Н+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этому титруют дихроматом в кислой среде. Окислительно-восстановительный потенциал системы Сr2О72-/2Сr3+ составляет 1,36 В. При [Н+] = 1 моль/л. Следовательно, в кислой среде дихромат калия является сильным окислителем. Поэтому дихроматометрию успешно применяют для определения почти всех восстановителей, определяемых перманганатометрически. Дихроматометрия имеет даже некоторые преимущества перед перманганатометрие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хромат калия легко получить в химически чистом виде перекристаллизацией. Поэтому стандартный раствор его приготовляют растворением точной навески. Растворы дихромата калия чрезвычайно устойчивы при хранении в закрытых сосудах; он не разлагается даже при кипячении подкисленного раствора и практически не изменяется при стоянии раство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оме того, дихромат калия труднее чем перманганат, восстанавливается органическими веществами. Поэтому он не окисляет случайные примеси органических веществ. Этим также обусловливается постоянство его титра в растворе. Дихромат калия не окисляет (без нагревания) хлорид-ионы. Это позволяет титровать им восстановители в присутствии НС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дикатором при дихроматометрическом титровании чаще всего служит дифениламин, окрашивающий раствор в синий цвет при малейшем избытке дихромата. Дифениламин относится к группе так называемых редокс-индикаторов (окислительно-восстановительных индикаторов). Они представляют собой окислительно-восстановительные системы, изменяющие окраску при переходе восстановленной формы в окисленную, или наоборо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обозначить окисленную форму индикатора Indокисл. восстановленную форму Indвосст., а число передаваемых электронов n, то превращение одной формы такого индикатора в другую можно изобразить схемо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Indокисл. ↔ Ind восст. - nе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ждый окислительно-восстановительный индикатор характеризуется определенным окислительно-восстановительным потенциалом. Для дефениламина он составляет +0,76 В. Окисленная форма дифениламина окрашена в синий цвет, а восстановленная - бесцвет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редокс-индикаторам кроме дифениламина относятся ферроин, дифениламиносульфонат натрия, фенилантраниловая кислота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ихроматометрически определяют ионы Fe2+ в растворах НСl или в сернокислых растворах. Хлорид-ионы не мешают определению, если концентрация их не превышает 1 моль/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днако при титровании солей Fe2+ дихроматом в растворе накапливаются катионы Fe3+, окислительно-восстановительный потенциал системы Fe3+↔Fe2+ повышается и дифениламин окисляется. Поэтому синяя окраска может появиться, когда точка эквивалентности еще не достигнут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понизить окислительно-восстановительный потенциал системы Fe2+ ↔ Fe3+, к раствору кроме дифениламина и хлороводородной кислоты прибавляют еще ортофосфорную кислоту. Последняя маскирует мешающие ионы Fe3+, связывая их в прочный бесцветный комплекс Fe (HP04)+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ислой среде K2Cr2O7 является сильным окислителем. С помощью дихромата калия можно титровать почти все те вещества, которые титруют перманганатом калия. По сравнению с перманганатометрией дихроматометрия имеет некоторые преимуществ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хроматометрия основана на использовании в качестве рабочего раствора дихромата калия K2Cr2O7. Метод может применяться как для прямых так и косвенных определений восстановител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дикаторами при дихроматометрическом титровании служат дифениламин, дифениламинсульфокислота или фенилантраниловая кислота (окрашивание титруемого раствора в сине-фиолетовый цвет свидетельствует о достижении точки эквивалентности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K2Cr2O7 легко получить в химически чистом виде перекристаллизацией из водного раствора. Стандартный 0,1 н раствор дихромата калия можно приготовить по точной навеск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створ дихромата калия очень устойчив. Он не разлагается даже при кипячении в подкисленном растворе. Вследствие этого титр его не изменяется при хранени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итрование дихроматом калия может быть проведено как в сернокислом, так и в солянокислом растворе, т. к. дихромат на холоде не реагирует с хлорид-иона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достатком дихроматометрии является то, что при титровании образуются Cr3+-ионы, придающие раствору зеленую окраску, затрудняющую фиксирование точки эквивалентност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вычисления молярной массы эквивалента окислителей или восстановителей учитывается число электронов, принимающих участие в окислительно-восстановительной реакции (Мэ = М/ne , где n – число электронов е). Для определения числа электронов необходимо знать начальную и конечную степень окисления окислителя и восстановител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з большого числа окислительно-восстановительных реакций для химического анализа используют только те реакции, которые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текают до конца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ходят быстро и стехиометрично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разуют продукты определенного химического состава (формулы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зволяют точно фиксировать точку эквивалентности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 вступают в реакцию с побочными продуктами, присутствующими в исследуемом раствор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иболее важными факторами, оказывающими влияние на скорость реакции, являются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нцентрация реагирующих веществ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мпература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значение рН раствора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сутствие катализатор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большинстве случаев скорость реакции находится в прямой зависимости от температуры и рН раствора. Поэтому многие определения методом окислительно-восстановительного титрования следует проводить при определенном значении рН и при нагрева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8360" y="18900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и анализе методами окислительно-восстановительного титрования используется прямое, обратное и заместительное титрование. Точка эквивалентности окислительно-восстановительного титрования фиксируется как с помощью индикаторов, так и безиндикаторным способом. Безиндикаторный способ применяется в тех случаях, когда окисленная и восстановленная формы титранта отличаются. В точке эквивалентности, при введении 1 капли избытка раствора титранта изменит окраску раствора. Безиндикаторным способом можно проводить определения перманганатометрическим методом, т.к. в точке эквивалентности от одной капли раствора перманганата калия титруемый раствор окращивается в бледнорозовый цвет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и индикаторном способе фиксирования точки эквивалентности применяют специфические и редоксиндикаторы. К специфическим индикаторам относится крахмал в иодометрии, который в присутствии свободного иода окрашивается в интенсивно-синий цвет вследствие образования адсорбционного соединения синего цвета. Редокс-индикаторы – это вещества, у которых окраска меняется при достижении определенного значения окислительно-восстановительного (редокспотенциала). К редокс-индикаторам относится, например, дифениламин NH(C6H5)2. При действии на бесцветные растворы его окислителями он окрашивается в сине-фиолетовый цвет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едокс-индикаторам предъявляют следующие требования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краска окисленной и восстановленной формы должна быть различн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зменение цвета должно быть заметно при небольшом количестве индикатор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ндикатор должен реагировать в точке эквивалентности с весьма небольшим избытком восстановителя или окислител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нтервал действия его должен быть как можно меньш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ндикатор должен быть устойчив к воздействию компонентов окружающей среды (О2, воздуха, СО2, света и т.п.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нтервал действия редокс-индикатора рассчитывается по формуле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Е = Ео ± 0,058/n 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де Ео - нормальный окислительно-восстановительный потенциал индикатора (в справочнике), n - число электронов, принимающих в процессе окисленияили восстановления индикатор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хроматометрическое титрование - один из методов окислительно-восстановительного титрования, основанный на использовании дихромата калия К2Сr207 в качестве окислителя. При действии на восстановители дихромат-ион Сr2О72- приобретает шесть электронов и восстанавливается до Сr3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8T09:59:30Z</dcterms:created>
  <dc:creator>100212</dc:creator>
  <dc:description/>
  <dc:language>en-US</dc:language>
  <cp:lastModifiedBy>Женис Бахытбекович</cp:lastModifiedBy>
  <dcterms:modified xsi:type="dcterms:W3CDTF">2012-04-09T04:51:14Z</dcterms:modified>
  <cp:revision>2</cp:revision>
  <dc:subject/>
  <dc:title>Дихроматометрическое титрование</dc:title>
</cp:coreProperties>
</file>